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4BA-A08F-44D7-BEB6-026DBB1F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122-61B2-409A-9B45-43F3E76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112-7401-4916-A73F-19611E16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237-B740-4485-A381-BDC38F92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5FC5-4647-4D87-9C66-2AD5D6A8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1C68-BBB0-4F6F-8C5F-64686CAC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69A7-A21F-4A3F-AE1E-3B547B23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DAC9-EE60-4B68-B9C3-84235C55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E27E-A18C-4B66-B1F2-1B1211D7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D783-0676-4BE5-B7AF-A91DA0D6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DF32-9C11-4FF9-A8D1-E4A11A4F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D77-D5DB-4A25-9550-954F5DB0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5F07-2F18-4C89-AEEC-4F698EB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E31C-AE57-4B37-9A4F-4F5C36D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27C7-FF26-488C-BE94-673C2BD4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D47-F40B-4486-AD11-AEAE725A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2EBA-9B27-4744-9467-34E6BB39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25F-D7C4-4A66-89B0-AB7C8D4A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FCD-D80A-4889-9A32-1856E92F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9D8-C753-48E5-9FBE-10291912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D17-08FA-43D5-9860-6494618E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59E-BA7A-4572-8684-5ABB389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DBD-8326-4E9E-9BE7-75DEA0CA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97C-6D2B-4752-B69A-0ABFC26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733C-A54C-4CA4-8536-2F8C79F352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A5BE-5F67-4D08-A493-250DA40BC7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file:///tmp/home/.config/libreoffice/4/user/gallery/doh.wav" TargetMode="External"/><Relationship Id="rId5" Type="http://schemas.openxmlformats.org/officeDocument/2006/relationships/hyperlink" Target="file:///tmp/home/.config/libreoffice/4/user/gallery/smart.wav" TargetMode="External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Farley%20burn%5B2%5D.wav" TargetMode="Externa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66"/>
                </a:solidFill>
                <a:uFillTx/>
                <a:latin typeface="Times New Roman"/>
              </a:rPr>
              <a:t>Nuclear Chemistr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0000ff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y of the Ato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0000ff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 Particles and Isotop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0000ff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oactivity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Deca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1676520"/>
            <a:ext cx="8382240" cy="2241360"/>
            <a:chOff x="380880" y="1676520"/>
            <a:chExt cx="8382240" cy="2241360"/>
          </a:xfrm>
        </p:grpSpPr>
        <p:graphicFrame>
          <p:nvGraphicFramePr>
            <p:cNvPr id="94" name=""/>
            <p:cNvGraphicFramePr/>
            <p:nvPr/>
          </p:nvGraphicFramePr>
          <p:xfrm>
            <a:off x="6400800" y="1676520"/>
            <a:ext cx="2362320" cy="216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00800" y="1676520"/>
                      <a:ext cx="2362320" cy="21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380880" y="1752480"/>
            <a:ext cx="2362320" cy="2165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1752480"/>
                      <a:ext cx="2362320" cy="21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429000" y="1752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1640" y="4572000"/>
            <a:ext cx="589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Cathode Ray Tub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45820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2480" y="510552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Cathode Ray Tub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534160" cy="387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368880" cy="4191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8320" y="1143000"/>
            <a:ext cx="3886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obert Millikan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es the mass and charge of an electron 1909-1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4800" y="579132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Millikan’s Oil Drop Experimen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731520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View of the Atom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02M11PH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85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View of the Atom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3859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66"/>
                </a:solidFill>
                <a:uFillTx/>
                <a:latin typeface="Times New Roman"/>
              </a:rPr>
              <a:t>Discover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19320"/>
            <a:ext cx="746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Helleni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Based on Intui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34320" y="2743200"/>
            <a:ext cx="1849320" cy="3809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52880" y="9144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2546640" cy="373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20574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istot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Democritu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>
            <a:hlinkClick r:id="rId4"/>
          </p:cNvPr>
          <p:cNvSpPr/>
          <p:nvPr/>
        </p:nvSpPr>
        <p:spPr>
          <a:xfrm>
            <a:off x="3048120" y="57913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9758"/>
                </a:moveTo>
                <a:lnTo>
                  <a:pt x="8224" y="9758"/>
                </a:lnTo>
                <a:lnTo>
                  <a:pt x="12645" y="5145"/>
                </a:lnTo>
                <a:lnTo>
                  <a:pt x="12645" y="19158"/>
                </a:lnTo>
                <a:lnTo>
                  <a:pt x="8224" y="14545"/>
                </a:lnTo>
                <a:lnTo>
                  <a:pt x="3794" y="14545"/>
                </a:lnTo>
                <a:close/>
              </a:path>
              <a:path fill="darken" w="21600" h="24303">
                <a:moveTo>
                  <a:pt x="14299" y="12152"/>
                </a:moveTo>
                <a:lnTo>
                  <a:pt x="17806" y="12152"/>
                </a:lnTo>
              </a:path>
              <a:path fill="darken" w="21600" h="24303">
                <a:moveTo>
                  <a:pt x="14299" y="9758"/>
                </a:moveTo>
                <a:lnTo>
                  <a:pt x="17806" y="6990"/>
                </a:lnTo>
              </a:path>
              <a:path fill="darken" w="21600" h="24303">
                <a:moveTo>
                  <a:pt x="14299" y="14545"/>
                </a:moveTo>
                <a:lnTo>
                  <a:pt x="17806" y="17313"/>
                </a:lnTo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>
            <a:hlinkClick r:id="rId5"/>
          </p:cNvPr>
          <p:cNvSpPr/>
          <p:nvPr/>
        </p:nvSpPr>
        <p:spPr>
          <a:xfrm>
            <a:off x="60958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9751"/>
                </a:moveTo>
                <a:lnTo>
                  <a:pt x="8224" y="9751"/>
                </a:lnTo>
                <a:lnTo>
                  <a:pt x="12645" y="5138"/>
                </a:lnTo>
                <a:lnTo>
                  <a:pt x="12645" y="19151"/>
                </a:lnTo>
                <a:lnTo>
                  <a:pt x="8224" y="14538"/>
                </a:lnTo>
                <a:lnTo>
                  <a:pt x="3794" y="14538"/>
                </a:lnTo>
                <a:close/>
              </a:path>
              <a:path fill="darken" w="21600" h="24289">
                <a:moveTo>
                  <a:pt x="14299" y="12144"/>
                </a:moveTo>
                <a:lnTo>
                  <a:pt x="17806" y="12144"/>
                </a:lnTo>
              </a:path>
              <a:path fill="darken" w="21600" h="24289">
                <a:moveTo>
                  <a:pt x="14299" y="9751"/>
                </a:moveTo>
                <a:lnTo>
                  <a:pt x="17806" y="6983"/>
                </a:lnTo>
              </a:path>
              <a:path fill="darken" w="21600" h="24289">
                <a:moveTo>
                  <a:pt x="14299" y="14538"/>
                </a:moveTo>
                <a:lnTo>
                  <a:pt x="17806" y="17306"/>
                </a:lnTo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533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tempora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based on experimen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3520" y="1676520"/>
            <a:ext cx="8381880" cy="3962160"/>
            <a:chOff x="533520" y="1676520"/>
            <a:chExt cx="8381880" cy="3962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354960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343400" y="1676520"/>
              <a:ext cx="45720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00cc"/>
                  </a:solidFill>
                  <a:latin typeface="Times New Roman"/>
                </a:rPr>
                <a:t>Dalton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- Proved the existence of the atom in 1803 via  </a:t>
              </a:r>
              <a:r>
                <a:rPr b="0" lang="en-US" sz="4400" spc="-1" strike="noStrike">
                  <a:solidFill>
                    <a:srgbClr val="6600ff"/>
                  </a:solidFill>
                  <a:latin typeface="Times New Roman"/>
                </a:rPr>
                <a:t>experimentation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lton’s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the smallest units of ma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identical to each other if they are of the same ele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the building blocks of compoun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The units of chemical chan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828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Atoms are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View of Atom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410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 based on Dalton’s theo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590920"/>
            <a:ext cx="1752840" cy="1828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1905120"/>
            <a:ext cx="304776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Uncharg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Spherical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att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962160" y="2438280"/>
            <a:ext cx="152388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8000"/>
                </a:solidFill>
                <a:uFillTx/>
                <a:latin typeface="Times New Roman"/>
              </a:rPr>
              <a:t>Discovery of the Electron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1676520"/>
            <a:ext cx="8458200" cy="4876560"/>
            <a:chOff x="457200" y="1676520"/>
            <a:chExt cx="8458200" cy="4876560"/>
          </a:xfrm>
        </p:grpSpPr>
        <p:pic>
          <p:nvPicPr>
            <p:cNvPr id="126" name="frankwithkey" descr=""/>
            <p:cNvPicPr/>
            <p:nvPr/>
          </p:nvPicPr>
          <p:blipFill>
            <a:blip r:embed="rId2"/>
            <a:stretch/>
          </p:blipFill>
          <p:spPr>
            <a:xfrm>
              <a:off x="457200" y="1676520"/>
              <a:ext cx="35496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191120" y="1828800"/>
              <a:ext cx="47242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3300"/>
                  </a:solidFill>
                  <a:latin typeface="Times New Roman"/>
                </a:rPr>
                <a:t>Electricity</a:t>
              </a:r>
              <a:r>
                <a:rPr b="0" i="1" lang="en-US" sz="4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as the starting place for the discovery of  atomic particles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rId3"/>
          </p:cNvPr>
          <p:cNvSpPr/>
          <p:nvPr/>
        </p:nvSpPr>
        <p:spPr>
          <a:xfrm>
            <a:off x="4572000" y="52578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8406"/>
                </a:moveTo>
                <a:lnTo>
                  <a:pt x="10190" y="8406"/>
                </a:lnTo>
                <a:lnTo>
                  <a:pt x="14611" y="3794"/>
                </a:lnTo>
                <a:lnTo>
                  <a:pt x="14611" y="17806"/>
                </a:lnTo>
                <a:lnTo>
                  <a:pt x="10190" y="13194"/>
                </a:lnTo>
                <a:lnTo>
                  <a:pt x="5760" y="13194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19773" y="10800"/>
                </a:lnTo>
              </a:path>
              <a:path fill="darken" w="25532" h="21600">
                <a:moveTo>
                  <a:pt x="16265" y="8406"/>
                </a:moveTo>
                <a:lnTo>
                  <a:pt x="19773" y="5639"/>
                </a:lnTo>
              </a:path>
              <a:path fill="darken" w="25532" h="21600">
                <a:moveTo>
                  <a:pt x="16265" y="13194"/>
                </a:moveTo>
                <a:lnTo>
                  <a:pt x="19773" y="15961"/>
                </a:lnTo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J.J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71340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267080" y="3809880"/>
            <a:ext cx="4496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JJ Thomso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dited with discovering the electron in 189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243828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76520" y="464832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Cathode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Ray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Tub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458200" cy="3074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2:40:34Z</dcterms:created>
  <dc:creator>Shamokin Area Schools</dc:creator>
  <dc:description/>
  <dc:language>en-US</dc:language>
  <cp:lastModifiedBy>Shamokin Area School District</cp:lastModifiedBy>
  <dcterms:modified xsi:type="dcterms:W3CDTF">2001-09-07T18:56:57Z</dcterms:modified>
  <cp:revision>43</cp:revision>
  <dc:subject/>
  <dc:title>Nuclear Chemistry</dc:title>
</cp:coreProperties>
</file>